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97B-62D7-47C3-90CF-77B5EB3D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0AF-36A4-438F-BAA0-1C96D73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7A2-9E6B-4F08-9C87-57CB274B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757-E043-4ABE-8DED-59E7C4C2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7BB-ECB8-45E9-A7AB-79F73762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2B0-5A71-4736-91A6-024D1C8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810-0984-49A4-8B8E-F0C973C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5E1-110C-4BD7-A838-CF7AC3B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F0B-3DCF-410D-A95F-988DFE2D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806-7FB0-472E-AD15-56CFAA0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12B-C425-422D-AEF1-05E9646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955-9C8F-4AF2-951E-082D728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E1F6-2FE5-44BD-A473-DFD65614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ohio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bensguide.gpo.gov/3-5/state/ohio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1109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stcardsfrom.com/t1/99111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62485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>
                        <a:alpha val="9137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Oh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>
                      <a:alpha val="9137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518148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4038480" cy="182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652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2920" y="1828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10280" y="2209680"/>
            <a:ext cx="2133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ong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10/7/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50states.com/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Colum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11,353,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: March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03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With God, all things a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Buckey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Scarlet Ca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Beautiful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683080" cy="28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6477120"/>
            <a:ext cx="205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Ohio: Map and State Flag"/>
          <p:cNvPicPr/>
          <p:nvPr/>
        </p:nvPicPr>
        <p:blipFill>
          <a:blip r:embed="rId1"/>
          <a:srcRect l="0" t="46485" r="0" b="0"/>
          <a:stretch/>
        </p:blipFill>
        <p:spPr>
          <a:xfrm>
            <a:off x="5410080" y="609480"/>
            <a:ext cx="295452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4647960" cy="28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4724280"/>
            <a:ext cx="71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Quick Facts Ohi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9/22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ohi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828800"/>
            <a:ext cx="137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An Iroquoian name meaning “beautiful ri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Facts: very competitive football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io is one of the nation’s industrial leaders, ranking third in the value in manufactur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Professional Hall of Fame is in Can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3, the Wright brothers developed a practical aircraft in D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 and Roll Hall of fame and museum is located in Cleveland, O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7320" y="66135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 Union Train Terminal"/>
          <p:cNvPicPr/>
          <p:nvPr/>
        </p:nvPicPr>
        <p:blipFill>
          <a:blip r:embed="rId1"/>
          <a:stretch/>
        </p:blipFill>
        <p:spPr>
          <a:xfrm>
            <a:off x="0" y="0"/>
            <a:ext cx="8686800" cy="561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586728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’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ion Terminal Cincinnati Ohi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10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 Terminal is a place that I would definitely want to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59436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638680"/>
            <a:ext cx="7010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’s Fr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olden Lamb Inn Lebanon OH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ostcardsfrom.com/t1/9911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All images Copyright © 1997 - 2000 WriteLine. All Rights Reserved. Golden Lamb Inn"/>
          <p:cNvPicPr/>
          <p:nvPr/>
        </p:nvPicPr>
        <p:blipFill>
          <a:blip r:embed="rId2"/>
          <a:stretch/>
        </p:blipFill>
        <p:spPr>
          <a:xfrm>
            <a:off x="228600" y="609480"/>
            <a:ext cx="8534520" cy="495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38680" y="106668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lden Lamb Inn is the hotel I would stay in if I visited Oh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5Z</dcterms:created>
  <dc:creator>install</dc:creator>
  <dc:description/>
  <dc:language>en-US</dc:language>
  <cp:lastModifiedBy>install</cp:lastModifiedBy>
  <dcterms:modified xsi:type="dcterms:W3CDTF">2010-10-14T13:19:44Z</dcterms:modified>
  <cp:revision>10</cp:revision>
  <dc:subject/>
  <dc:title>Slide 1</dc:title>
</cp:coreProperties>
</file>